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55D-3197-4ECF-B8C7-75BCEC10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2A8-609A-4B03-A074-7C491269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241-A5A7-463B-B61E-55A5DCA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ED5-25C5-433B-A577-71BB3A4F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D4D-3679-44DB-8CB2-4C1D0456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FAA-E48F-42BC-8163-1163AC97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624-FDAF-42E4-8EE9-1082E5B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F92-A6A7-49E6-B84E-3F52A0D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301-04D8-464B-9DBC-EAEBACF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50D-EDD3-420F-892D-0C9CF29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FA8-85D4-4508-85B1-72853E57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1ED-F089-4370-A0E3-BD0683C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382A-A0CD-40BD-BF9E-B32367CA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eplicaplants.co.uk/new-plants-057.jpg&amp;imgrefurl=http://juanolator.blogspot.com/2007_11_01_archive.html&amp;usg=__L3Ogy1CpMyCVzNqwmnmuY88K8D8=&amp;h=524&amp;w=450&amp;sz=39&amp;hl=en&amp;start=3&amp;tbnid=xUguY8VDp7aI3M:&amp;tbnh=132&amp;tbnw=113&amp;prev=/images%3Fq%3Dplant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grow.ars-informatica.ca/images/umbrella_plants.jpg&amp;imgrefurl=http://grow.ars-informatica.ca/&amp;usg=__CVoIUfe2GG6eNtbrbGKAcjrCiPU=&amp;h=450&amp;w=600&amp;sz=83&amp;hl=en&amp;start=7&amp;tbnid=V7dWTyU6n5O6UM:&amp;tbnh=101&amp;tbnw=135&amp;prev=/images%3Fq%3Dplants%26gbv%3D2%26hl%3D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1.istockphoto.com/file_thumbview_approve/2692541/2/istockphoto_2692541_blue_primrose_potted_plant.jpg&amp;imgrefurl=http://boards.weddingbells.ca/showflat.php%3FCat%3D%26Number%3D2698970%26Main%3D2695756&amp;usg=__zajmoIlNWl-g7sar7kZIdzRQNiE=&amp;h=253&amp;w=380&amp;sz=63&amp;hl=en&amp;start=19&amp;tbnid=IkFlYK99M6ja9M:&amp;tbnh=82&amp;tbnw=123&amp;prev=/images%3Fq%3Dpotted%2Bplants%26gbv%3D2%26hl%3Den%26sa%3DX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imagecloset.com/9/636d2f58bac15ea42e90080d07792bd2/bone_cartoon_193590_tnb.png&amp;imgrefurl=http://profile.myspace.com/index.cfm%3Ffuseaction%3Duser.viewProfile%26friendID%3D30487182&amp;usg=__V2Tkc8jTBewsisIYTaB2g7jQwak=&amp;h=350&amp;w=224&amp;sz=73&amp;hl=en&amp;start=3&amp;tbnid=VAd2PUDt35q8TM:&amp;tbnh=120&amp;tbnw=77&amp;prev=/images%3Fq%3Dbroken%2Bbone%2B%2Bcartoon%26gbv%3D2%26hl%3Den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"/>
              </a:rPr>
              <a:t>Question 1: What is the definition of an astronom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2057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5720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What is the the term used for practice of creating medicines from plant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267080"/>
            <a:ext cx="1989000" cy="23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67080"/>
            <a:ext cx="285300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124080"/>
            <a:ext cx="1957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04920"/>
            <a:ext cx="73911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rue or false?  The Egyptians were still unable set bones because the practice wasn’t discovered yet.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44808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21640" y="3124080"/>
            <a:ext cx="232236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9880" y="3124080"/>
            <a:ext cx="26542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43434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520"/>
            <a:ext cx="807732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Papyru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 and fin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What is the name of the dog constellation that the Ancient Egyptians saw at about the same time that the Nile began to rise rapid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88620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6094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nk You for taking this quiz. These will be graded and anyone who gets everything right will be put into a raffle. The winner gets a pri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William Ehrlich</cp:lastModifiedBy>
  <dcterms:modified xsi:type="dcterms:W3CDTF">2009-02-04T01:08:18Z</dcterms:modified>
  <cp:revision>5</cp:revision>
  <dc:subject/>
  <dc:title>Slide 1</dc:title>
</cp:coreProperties>
</file>